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85B-BE6E-4A6C-8B80-885F652D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F9C-1FA9-421B-BF37-08CA576F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AD9-8B6D-4BDE-983A-37B7C2AD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68C-B12C-41FD-A221-F52FB409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655-76D5-470F-82A5-7CE01B9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661-456C-4375-814F-B094220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9CA-136B-49E4-811D-9813BDA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491-8CC9-432E-A234-4871AE08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DAF-F29B-4934-AFB2-EB95770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25D-4F4A-4F64-BAE2-4563577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1C7-5DE9-4F9A-A37D-0581A54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0D1-C63C-4EBC-9603-1CF123B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BA9-99A4-4A8D-BF16-8801482D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mageShack, share photos, pictures, free image hosting, free video hosting, image hosting, video hosting, photo image hosting site, video hosting site"/>
          <p:cNvPicPr/>
          <p:nvPr/>
        </p:nvPicPr>
        <p:blipFill>
          <a:blip r:embed="rId1"/>
          <a:stretch/>
        </p:blipFill>
        <p:spPr>
          <a:xfrm>
            <a:off x="-990720" y="0"/>
            <a:ext cx="1112544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stock photo : Russian czar Ivan III. Detail of the Monument to the Millennium of Russia from 1864 in Veliky Novgorod,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ng Ivan the th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371760" cy="550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ic terri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962520"/>
            <a:ext cx="3733920" cy="485640"/>
          </a:xfrm>
          <a:prstGeom prst="leftArrow">
            <a:avLst>
              <a:gd name="adj1" fmla="val 50000"/>
              <a:gd name="adj2" fmla="val 192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n Slavs Battle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Shack, share photos of skythicon, share pictures of skythicon, share video of skythicon, free image hosting, free video hosting, image hosting, video hosting.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1905120"/>
            <a:ext cx="4876920" cy="2757240"/>
          </a:xfrm>
          <a:custGeom>
            <a:avLst/>
            <a:gdLst>
              <a:gd name="textAreaLeft" fmla="*/ 1399680 w 4876920"/>
              <a:gd name="textAreaRight" fmla="*/ 4177080 w 4876920"/>
              <a:gd name="textAreaTop" fmla="*/ 1595520 h 2757240"/>
              <a:gd name="textAreaBottom" fmla="*/ 2361600 h 2757240"/>
            </a:gdLst>
            <a:ahLst/>
            <a:rect l="textAreaLeft" t="textAreaTop" r="textAreaRight" b="textAreaBottom"/>
            <a:pathLst>
              <a:path w="21600" h="21600">
                <a:moveTo>
                  <a:pt x="0" y="15500"/>
                </a:moveTo>
                <a:lnTo>
                  <a:pt x="6200" y="9399"/>
                </a:lnTo>
                <a:lnTo>
                  <a:pt x="6200" y="12499"/>
                </a:lnTo>
                <a:lnTo>
                  <a:pt x="12499" y="12499"/>
                </a:lnTo>
                <a:lnTo>
                  <a:pt x="12499" y="6200"/>
                </a:lnTo>
                <a:lnTo>
                  <a:pt x="9399" y="6200"/>
                </a:lnTo>
                <a:lnTo>
                  <a:pt x="1550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gear used against Mong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Malcolm Barber</cp:lastModifiedBy>
  <dcterms:modified xsi:type="dcterms:W3CDTF">2010-12-16T22:25:05Z</dcterms:modified>
  <cp:revision>10</cp:revision>
  <dc:subject/>
  <dc:title>HISTORY BEFORE 1917</dc:title>
</cp:coreProperties>
</file>